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lider2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CAD-1EE2-4FF7-8439-579B63F0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66C-FE3A-4188-BA6E-E554B2BD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42F-F029-4C67-BE35-3C6E203D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C50-1120-40FD-A781-0CA423F9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3BB-C40B-43C0-92C6-19024B8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A2C-FBC3-4642-ACD6-3A084795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11D-60BA-4CC0-B783-E7B686D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75F-8E63-4B31-A736-9753704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865-9BB2-41B0-BBD7-B5CECA14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75F-861F-4300-8A70-8A2F7A41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812-AAC1-41B9-9385-E5889764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720-0F07-426C-8612-ACE4C710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D895-ECC2-427F-9827-1BEFAC88E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hzipup01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03120" y="1119240"/>
                <a:ext cx="673092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03520" y="2332080"/>
                <a:ext cx="21398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97000" y="5081760"/>
                <a:ext cx="3794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74880" y="4178160"/>
                <a:ext cx="99720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70240" y="50832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25520" y="4152960"/>
                <a:ext cx="137952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50880" y="40910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 flipV="1">
            <a:off x="2009880" y="4352400"/>
            <a:ext cx="533160" cy="489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781440" y="517536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3224160" y="5149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413240" y="4210200"/>
                <a:ext cx="1351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146560" y="5097600"/>
                <a:ext cx="357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732640" y="4649760"/>
                <a:ext cx="1249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8440" y="1171440"/>
                <a:ext cx="77565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÷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54200" y="2387520"/>
                <a:ext cx="218736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÷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287880" y="4341960"/>
                <a:ext cx="18525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998960" y="4317840"/>
                <a:ext cx="85716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79600" y="2409840"/>
                <a:ext cx="14274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062240" y="3325680"/>
                <a:ext cx="379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29240" y="2408400"/>
                <a:ext cx="132696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03880" y="3301920"/>
                <a:ext cx="474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65360" y="4313160"/>
                <a:ext cx="451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3929040" y="453348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42080" y="546588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5103720" y="53625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162840" y="4459320"/>
                <a:ext cx="13078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73840" y="534672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380360" y="4888080"/>
                <a:ext cx="12175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30080" y="1308240"/>
                <a:ext cx="40626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76360" y="2897280"/>
                <a:ext cx="1527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83040" y="2922480"/>
                <a:ext cx="139860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01880" y="3840120"/>
                <a:ext cx="7146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8960" y="1190520"/>
                <a:ext cx="77155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98480" y="2200320"/>
                <a:ext cx="36133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36640" y="3876840"/>
                <a:ext cx="275616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18000" y="3868560"/>
                <a:ext cx="569880" cy="184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59400" y="4824360"/>
                <a:ext cx="523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19480" y="38466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 flipV="1">
            <a:off x="3465360" y="407016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86440" y="492120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V="1">
            <a:off x="4546440" y="491184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179800" y="5765760"/>
                <a:ext cx="121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11360" y="5775480"/>
                <a:ext cx="4464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73600" y="5769000"/>
                <a:ext cx="1206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8960" y="1204920"/>
                <a:ext cx="7016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1760" y="2214720"/>
                <a:ext cx="223380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55880" y="2577960"/>
                <a:ext cx="5716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55800" y="327672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181240" y="335556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83000" y="2351160"/>
                <a:ext cx="357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 flipV="1">
            <a:off x="2878200" y="279252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70160" y="4375080"/>
                <a:ext cx="90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3640" y="435276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57520" y="4361040"/>
                <a:ext cx="9381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1, 9 – 6 #1-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84 #1-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4T12:34:30Z</dcterms:modified>
  <cp:revision>92</cp:revision>
  <dc:subject/>
  <dc:title>Slide 1</dc:title>
</cp:coreProperties>
</file>